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C13C-D471-41BB-81E7-6A65A7CF3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ECB4-1479-49B1-9AE8-2DF1F12E5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6D3F-EE39-40D3-A171-D8F979287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6BCE-C0F1-4502-AB96-AB4AF4690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ABE97-91B5-4F77-A7D1-C075BC534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1D61A-EDC6-48B4-9DF2-F041DB28D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F30AF-D480-4A3E-B6C7-327AE1529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ADAC5-618E-499F-934B-8FF04BA06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1E17E-A8FE-42F5-8732-E63B54181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AC15F-600C-45BB-83BD-0DAE05135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A8C9D-07ED-40D3-BA80-6EF2CC82D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6811-EA43-4F6C-A617-D84213D2F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811D6-AA4F-4270-84C9-8087DF898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C18FB-6D67-4713-8294-1E2A9CAD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A47DC-B61C-494C-9AC7-470A0215A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F22BC-E179-4844-ADA6-EBE1FDE85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4ED5B-82C7-4AC0-BD72-1133F01AA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EFE1-D898-46CF-956C-2378C51BD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6BF1-67BF-4DB3-84CB-B471A8556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088F-F72C-4AB6-8858-8C3E302CF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0E53-B1A7-40BE-AC28-846BFC079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F2A3-1751-49E0-A787-BA192F61E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1B5C-0A33-44E2-B665-62C44AFC6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DDC6-5C2E-4480-A758-0CD10E5A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99DBA-521B-4212-A33D-25D8DCFA44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6EE70-4C31-4E7A-AD59-3F79C3C72E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uthentic Music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o”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ze activity (fill in blank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en at least two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 sh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le class “correction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ritten response to music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p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ing book becomes listening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dily kinesthetic &amp; Visual spa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ific looking project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trip book conten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appropriate levels of writing for proficiency level of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 size determines extent of writing t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 from “guided” writing to open-ended, more “independent”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Sample prompts: Love is letting go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 1: title of song, si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 2: a number &amp; a color that symbolizes the song and 1 sentence to explain each ch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 3: a description of the things in the song that are lo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Sample prompts: Love is letting go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 4: write a diary entry as the bird and explain how it fe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 5: create another verse for the song, continuing the rhyme and rhythm from the s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 6: write an “I know” p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 know” poem (example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 1: “I know”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itle of s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 2: “I know”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our s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 3: “I know”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ree s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 4: “I know”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wo sm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 5: “I know”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wo qu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 6: “I know”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itle of s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02:33:03Z</dcterms:created>
  <dc:creator>Christine Lanphere</dc:creator>
  <dc:description/>
  <dc:language>en-US</dc:language>
  <cp:lastModifiedBy>Christine Lanphere</cp:lastModifiedBy>
  <dcterms:modified xsi:type="dcterms:W3CDTF">2008-02-23T02:49:10Z</dcterms:modified>
  <cp:revision>6</cp:revision>
  <dc:subject/>
  <dc:title>Authentic Music</dc:title>
</cp:coreProperties>
</file>